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F019-0E0B-4ADB-BA2D-6BF1CB782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A5FA-9CC0-418B-8D8C-EBED3DC09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9A98-EF47-43F1-91EC-F3275C1AE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2F82-E938-472A-895A-707A2E7B5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2DD9-02B7-4B6E-9F83-BCC7A50A8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FBC0-39F7-41E9-B92E-DA4478B86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F9B7-427B-4F3B-A955-096DE85D6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87A1-3AA9-49FA-BEC5-94F363F54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6280" y="-360"/>
            <a:ext cx="82296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84F3-9F67-4E8A-961B-D54D37D12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58BC-8AB8-426B-A6B8-C1958B48A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E269-7644-41D4-980B-B6D8D4369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6280" y="-3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AD0B-E95D-4233-89AA-CF3E1BC3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6ff"/>
            </a:gs>
            <a:gs pos="50000">
              <a:srgbClr val="ffffff"/>
            </a:gs>
            <a:gs pos="100000">
              <a:srgbClr val="ddf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54780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xilinx_logo"/>
          <p:cNvPicPr/>
          <p:nvPr/>
        </p:nvPicPr>
        <p:blipFill>
          <a:blip r:embed="rId2"/>
          <a:srcRect l="0" t="0" r="8598" b="0"/>
          <a:stretch/>
        </p:blipFill>
        <p:spPr>
          <a:xfrm>
            <a:off x="7742160" y="6399360"/>
            <a:ext cx="1057320" cy="323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mod 3altera_logo"/>
          <p:cNvPicPr/>
          <p:nvPr/>
        </p:nvPicPr>
        <p:blipFill>
          <a:blip r:embed="rId3"/>
          <a:srcRect l="0" t="0" r="6286" b="0"/>
          <a:stretch/>
        </p:blipFill>
        <p:spPr>
          <a:xfrm>
            <a:off x="341280" y="6440400"/>
            <a:ext cx="1122480" cy="290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4"/>
          <p:cNvSpPr/>
          <p:nvPr/>
        </p:nvSpPr>
        <p:spPr>
          <a:xfrm>
            <a:off x="5003640" y="649116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986600" y="6622560"/>
            <a:ext cx="1206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379-F46C-417B-8FA4-D71BA5A8D972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1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2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2F3-F277-4EB0-944C-69CCAC126794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116000" y="2133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333399"/>
                </a:solidFill>
                <a:latin typeface="Tahoma"/>
              </a:rPr>
              <a:t>Altera  vs.  Xilin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0" y="3429000"/>
            <a:ext cx="407664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5067360" y="2168640"/>
            <a:ext cx="407664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3768120" y="4095720"/>
            <a:ext cx="1576800" cy="681840"/>
            <a:chOff x="3768120" y="4095720"/>
            <a:chExt cx="1576800" cy="681840"/>
          </a:xfrm>
        </p:grpSpPr>
        <p:sp>
          <p:nvSpPr>
            <p:cNvPr id="48" name="Text Box 13"/>
            <p:cNvSpPr/>
            <p:nvPr/>
          </p:nvSpPr>
          <p:spPr>
            <a:xfrm>
              <a:off x="3768120" y="4095720"/>
              <a:ext cx="1576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700" spc="-1" strike="noStrike">
                  <a:solidFill>
                    <a:srgbClr val="333399"/>
                  </a:solidFill>
                  <a:latin typeface="Arial"/>
                </a:rPr>
                <a:t>Ognjen Šć</a:t>
              </a:r>
              <a:r>
                <a:rPr b="0" lang="en-US" sz="1700" spc="-1" strike="noStrike">
                  <a:solidFill>
                    <a:srgbClr val="333399"/>
                  </a:solidFill>
                  <a:latin typeface="Arial"/>
                </a:rPr>
                <a:t>eki</a:t>
              </a:r>
              <a:r>
                <a:rPr b="0" lang="hr-HR" sz="1700" spc="-1" strike="noStrike">
                  <a:solidFill>
                    <a:srgbClr val="333399"/>
                  </a:solidFill>
                  <a:latin typeface="Arial"/>
                </a:rPr>
                <a:t>ć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4"/>
            <p:cNvSpPr/>
            <p:nvPr/>
          </p:nvSpPr>
          <p:spPr>
            <a:xfrm>
              <a:off x="3993840" y="4440240"/>
              <a:ext cx="11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ogi@cg.y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6"/>
          <p:cNvGrpSpPr/>
          <p:nvPr/>
        </p:nvGrpSpPr>
        <p:grpSpPr>
          <a:xfrm>
            <a:off x="3277080" y="4960800"/>
            <a:ext cx="3126240" cy="686520"/>
            <a:chOff x="3277080" y="4960800"/>
            <a:chExt cx="3126240" cy="686520"/>
          </a:xfrm>
        </p:grpSpPr>
        <p:sp>
          <p:nvSpPr>
            <p:cNvPr id="51" name="Text Box 17"/>
            <p:cNvSpPr/>
            <p:nvPr/>
          </p:nvSpPr>
          <p:spPr>
            <a:xfrm>
              <a:off x="3277080" y="4960800"/>
              <a:ext cx="2585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Arial"/>
                </a:rPr>
                <a:t>prof. dr Veljko Milutinovi</a:t>
              </a:r>
              <a:r>
                <a:rPr b="0" lang="hr-HR" sz="1700" spc="-1" strike="noStrike">
                  <a:solidFill>
                    <a:srgbClr val="333399"/>
                  </a:solidFill>
                  <a:latin typeface="Arial"/>
                </a:rPr>
                <a:t>ć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8"/>
            <p:cNvSpPr/>
            <p:nvPr/>
          </p:nvSpPr>
          <p:spPr>
            <a:xfrm>
              <a:off x="3784320" y="531000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vm</a:t>
              </a:r>
              <a:r>
                <a:rPr b="0" lang="en-US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@</a:t>
              </a:r>
              <a:r>
                <a:rPr b="0" lang="hr-HR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etf</a:t>
              </a:r>
              <a:r>
                <a:rPr b="0" lang="en-US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.</a:t>
              </a:r>
              <a:r>
                <a:rPr b="0" lang="hr-HR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bg.ac.</a:t>
              </a:r>
              <a:r>
                <a:rPr b="0" lang="en-US" sz="1600" spc="-1" strike="noStrike" u="sng">
                  <a:solidFill>
                    <a:srgbClr val="990000"/>
                  </a:solidFill>
                  <a:uFillTx/>
                  <a:latin typeface="Arial"/>
                </a:rPr>
                <a:t>y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5F6-8DC3-442B-8C3A-D094A35B0984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bedded Mem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3" descr="cyclone 2 logo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yclone II floorplan"/>
          <p:cNvPicPr/>
          <p:nvPr/>
        </p:nvPicPr>
        <p:blipFill>
          <a:blip r:embed="rId2"/>
          <a:stretch/>
        </p:blipFill>
        <p:spPr>
          <a:xfrm>
            <a:off x="1400040" y="1604880"/>
            <a:ext cx="6535800" cy="44388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3543480" y="2057400"/>
            <a:ext cx="2274840" cy="3532320"/>
            <a:chOff x="3543480" y="2057400"/>
            <a:chExt cx="2274840" cy="3532320"/>
          </a:xfrm>
        </p:grpSpPr>
        <p:sp>
          <p:nvSpPr>
            <p:cNvPr id="111" name="Rectangle 9"/>
            <p:cNvSpPr/>
            <p:nvPr/>
          </p:nvSpPr>
          <p:spPr>
            <a:xfrm>
              <a:off x="3543480" y="2057400"/>
              <a:ext cx="253800" cy="35179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5564160" y="2071800"/>
              <a:ext cx="254160" cy="35179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2"/>
          <p:cNvSpPr/>
          <p:nvPr/>
        </p:nvSpPr>
        <p:spPr>
          <a:xfrm>
            <a:off x="165240" y="1347840"/>
            <a:ext cx="887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03040" y="736560"/>
            <a:ext cx="8141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sists of columns of M4K memory bl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C6D-FB90-46CD-8303-1BE25A8526F1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bedded Memory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cyclone 2 logo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395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03040" y="863640"/>
            <a:ext cx="8875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e M4K blocks support the following 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4,608 RAM bits (4Kbits + parity bits – one for each 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50-MHz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rue dual-por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Supports any combination of two-port operations: </a:t>
            </a:r>
            <a:br>
              <a:rPr sz="1700"/>
            </a:b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2 reads, 2 writes, or 1 read and 1 write at different clock frequenci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ple dual-por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Simultaneous reads and writes are support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ngle-por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Simultaneous reads and writes are not allow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65240" y="1347840"/>
            <a:ext cx="887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DD32-DFAD-445B-966A-3B93EC8CAABB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bedded Memory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3" descr="cyclone 2 logo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395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203040" y="863640"/>
            <a:ext cx="88758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e M4K blocks support the following 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IF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When configured as RAM or ROM, </a:t>
            </a:r>
            <a:br>
              <a:rPr sz="1700"/>
            </a:b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you can use an initialization file to preload the memory conten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yte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Allows the input data to be masked so the device can write to specific bytes. </a:t>
            </a:r>
            <a:br>
              <a:rPr sz="1700"/>
            </a:b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The unwritten bytes retain the previous written valu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ddress clock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Used to hold the previous address value for as long as the signal is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 enabled. </a:t>
            </a:r>
            <a:br>
              <a:rPr sz="1700"/>
            </a:b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This feature is useful in handling cache miss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tent Addressable memory (CAM)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Associativ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5240" y="1347840"/>
            <a:ext cx="887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69BD-BA72-480F-AD5B-5F44AAF0570F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bedded Multipli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3" descr="cyclone 2 logo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39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yclone II floorplan"/>
          <p:cNvPicPr/>
          <p:nvPr/>
        </p:nvPicPr>
        <p:blipFill>
          <a:blip r:embed="rId2"/>
          <a:stretch/>
        </p:blipFill>
        <p:spPr>
          <a:xfrm>
            <a:off x="1400040" y="1604880"/>
            <a:ext cx="6535800" cy="4438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65240" y="1347840"/>
            <a:ext cx="887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3040" y="736560"/>
            <a:ext cx="8141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ocated in columns high as one LAB r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546440" y="2057400"/>
            <a:ext cx="266760" cy="35053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DDDB-E840-4FA2-AE93-151E307804C0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bedded Multipliers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3" descr="cyclone 2 logo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395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03040" y="863640"/>
            <a:ext cx="887580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ultiplier blocks are optimized for intensive Digital Signal Processing functions, such 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finite impulse response (FIR) filters, Fast Fourier Transform (FFT), </a:t>
            </a:r>
            <a:br>
              <a:rPr sz="1700"/>
            </a:b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6600"/>
                </a:solidFill>
                <a:latin typeface="Tahoma"/>
              </a:rPr>
              <a:t>Discrete Cosine Transform (DCT) function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Operate at up to 250 M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65240" y="1347840"/>
            <a:ext cx="887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yclone II multiplier count"/>
          <p:cNvPicPr/>
          <p:nvPr/>
        </p:nvPicPr>
        <p:blipFill>
          <a:blip r:embed="rId2"/>
          <a:stretch/>
        </p:blipFill>
        <p:spPr>
          <a:xfrm>
            <a:off x="571680" y="3762360"/>
            <a:ext cx="8183520" cy="2351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949320" y="1549440"/>
            <a:ext cx="7240680" cy="208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Embedded multipliers can work in 2 basic operational m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One 18b x 18b 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Two independent 9b x 9b multi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544-830B-4E06-9DAA-4E170F67712A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6616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mbedded Multiplier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3" descr="cyclone 2 logo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395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203040" y="863640"/>
            <a:ext cx="8875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 embedded multiplier consists of the following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ultiplie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put and outpu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put and outpu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65240" y="1347840"/>
            <a:ext cx="887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Cyclone II multiplier block"/>
          <p:cNvPicPr/>
          <p:nvPr/>
        </p:nvPicPr>
        <p:blipFill>
          <a:blip r:embed="rId2"/>
          <a:stretch/>
        </p:blipFill>
        <p:spPr>
          <a:xfrm>
            <a:off x="3952800" y="2793960"/>
            <a:ext cx="4998960" cy="33908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0"/>
          <p:cNvSpPr/>
          <p:nvPr/>
        </p:nvSpPr>
        <p:spPr>
          <a:xfrm rot="16200000">
            <a:off x="1274400" y="1650960"/>
            <a:ext cx="1098720" cy="2965320"/>
          </a:xfrm>
          <a:prstGeom prst="wedgeRoundRectCallout">
            <a:avLst>
              <a:gd name="adj1" fmla="val 15314"/>
              <a:gd name="adj2" fmla="val 112472"/>
              <a:gd name="adj3" fmla="val 16667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se signals control operand repre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gned or un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rot="16200000">
            <a:off x="1873080" y="3595320"/>
            <a:ext cx="971640" cy="1949400"/>
          </a:xfrm>
          <a:prstGeom prst="wedgeRoundRectCallout">
            <a:avLst>
              <a:gd name="adj1" fmla="val 17810"/>
              <a:gd name="adj2" fmla="val 146250"/>
              <a:gd name="adj3" fmla="val 16667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put Register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used 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 rot="16200000">
            <a:off x="7297560" y="1437840"/>
            <a:ext cx="971640" cy="1949400"/>
          </a:xfrm>
          <a:prstGeom prst="wedgeRoundRectCallout">
            <a:avLst>
              <a:gd name="adj1" fmla="val -241671"/>
              <a:gd name="adj2" fmla="val -29643"/>
              <a:gd name="adj3" fmla="val 16667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Output Register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used 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B79B-0C28-40AB-9B99-F5916AFDB132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37240" y="1708200"/>
            <a:ext cx="9027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ll parts of a digital circuit need to be synchronized to a desired clock sig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f a circuit is large, complex, and operating at high frequ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 clock propagation delay and clock skew have a great impact on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refore, providing a clock signal with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zero-delay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in all parts of an FP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ecomes cru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he solution is to divide FPGA into regions that can work at different frequenc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alled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lock domain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ck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9000" y="1946160"/>
            <a:ext cx="86742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ock management comprises two basic function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move clock skew and propagation delay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enerate new clock signals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ith different frequencies and/or phases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508-97CC-4190-BB17-80977F78B096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ving Clock Sk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t can be done using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DL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 –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lay-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cked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ops  (Xilin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PL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 –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hase-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cked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ops  (Al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LL blok diagram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277920" y="2543040"/>
            <a:ext cx="414648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LL blok diagram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73600" y="2565360"/>
            <a:ext cx="4203720" cy="1749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935640" y="4597560"/>
            <a:ext cx="267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3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DLL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725080" y="4597560"/>
            <a:ext cx="26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3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PLL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363680" y="5199120"/>
            <a:ext cx="637524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ey both compensate for the delay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generated on the routing network inside the FPGA,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roviding zero-delay clock signal to different parts of FP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AC6-9DDD-407F-9A90-4122F2BAC352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ay-Locked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" name="Picture 4" descr="DLL blok diagram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1981080" y="925560"/>
            <a:ext cx="4991400" cy="2192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961920" y="3511440"/>
            <a:ext cx="776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elay-line produces a delayed version of the input clock CL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lock distribution network routes the clock to FPGA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nd to the feedback CLKFB p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trol logic sample the input clock and the feedback c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 order to adjust the delay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elay-line consists on an array of delay ele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ypically CMOS voltage-controlled inverters connected in s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98440" y="3471840"/>
            <a:ext cx="6769080" cy="2533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DLL works by inserting delay between the input clock 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and the feedback clock until the two rising edges alig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putting the two clocks in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When the two clocks are in phase, the DLL "locks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Thus, the DLL output clock compensates for the de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in the clock distribution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81C4-3EA6-42AB-BCDF-F657D27A8A74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-Locked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" name="Picture 4" descr="PLL blok diagra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28880" y="1000080"/>
            <a:ext cx="5041800" cy="2098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961920" y="3511440"/>
            <a:ext cx="7763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nstead of a delay line, the PLL uses a voltage controlled oscill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hich generates a clock signal that approximates the input clock CL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trol logic, consisting of a phase detector and fil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djusts the oscillator frequency and phase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to compensate for the clock distribution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hen the clocks are aligned the PLL "locks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0E1F-F8BD-4530-A78B-639768AC7B21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L vs. D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6146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L                                        D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984560" y="2106720"/>
            <a:ext cx="37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Advant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does not accumulate phas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11120" y="2106720"/>
            <a:ext cx="389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Tahoma"/>
              </a:rPr>
              <a:t>Drawb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oscillator accumulates phas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47840" y="3935520"/>
            <a:ext cx="326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Advant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frequency synthesis is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because of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968720" y="3935520"/>
            <a:ext cx="405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Tahoma"/>
              </a:rPr>
              <a:t>Drawb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frequency synthesis is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405160" y="5351400"/>
            <a:ext cx="42433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ltera uses PLLs and Xilinx uses D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B65E-42B7-411B-A7A9-CB0BEDFC3F48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080" y="-360"/>
            <a:ext cx="8488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ock Generation &amp; Phase Shif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2888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eside clock skew elimination, DLLs (PLLs) are also used for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lock managers need to be resistant to temperature/voltage varia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ions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308240" y="1511280"/>
            <a:ext cx="6743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frequency multiplication and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uty-cycle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hase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38120" y="4191120"/>
            <a:ext cx="640080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Clock manipulation dramatically simplifies th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and improves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At the same time it provides many design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7DB-04D4-427A-97C3-8DB103678253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bedded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130040"/>
            <a:ext cx="85345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Using LUTs as registers does not provide enough space or versatil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9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ime-dependent applications, performing many computations,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9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need an entire built-in memor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9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e main advantages of embedded (built-in) memory are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371600" y="3454560"/>
            <a:ext cx="6743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hort acce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igh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eat vers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619440" y="4178160"/>
            <a:ext cx="938160" cy="254160"/>
          </a:xfrm>
          <a:prstGeom prst="rightArrow">
            <a:avLst>
              <a:gd name="adj1" fmla="val 50000"/>
              <a:gd name="adj2" fmla="val 922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88080" y="3683160"/>
            <a:ext cx="3181320" cy="259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It can behave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Buffer (FIFO, LIF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548160" y="6624720"/>
            <a:ext cx="2011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Ognjen Šćek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986600" y="6622920"/>
            <a:ext cx="1206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19F7-21AC-46CD-9053-003C30E72177}" type="slidenum">
              <a:rPr b="1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/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P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15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DSP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– 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gital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gnal 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ocess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1650960"/>
            <a:ext cx="82677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ajority of FPGA applications require some sort of D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 order to increase efficiency DSP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putations are executed in parallel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ipelining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ecial DSP units have been developed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o fully exploit FPGA's adaptabl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ese units are designed to optimize execution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f commonly used DSP algorith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filtering, encoding/decoding, equalization, modulation, FFT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ey usually conta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multipliers (in parallel), accumulators, adders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and 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3:00:36Z</dcterms:created>
  <dc:creator>Niko Neznanovic</dc:creator>
  <dc:description/>
  <dc:language>en-US</dc:language>
  <cp:lastModifiedBy>Zivojin Sustran</cp:lastModifiedBy>
  <dcterms:modified xsi:type="dcterms:W3CDTF">2015-12-15T09:42:46Z</dcterms:modified>
  <cp:revision>88</cp:revision>
  <dc:subject/>
  <dc:title>Slide 1</dc:title>
</cp:coreProperties>
</file>